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BE86-FBAD-4B38-920E-173B7F75FA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A8FC-98E5-44E7-9032-969AA57D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ED9A-33E4-4F18-8039-C42E1410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A1B20-E724-45D1-B85A-9C5DB41BD1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5816D-357F-4BF3-B42D-71270F45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06EF4-2197-4597-A3B6-37B7B4C9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3C71-8C6B-433E-B97B-B387374F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4831-ACF0-4F42-8713-CDF9EFE6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5A82-BEAC-4D26-8DDA-04F29BEC8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F11A-FE9F-4F00-8C95-DA5A6B42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94DD-1D20-4B67-826E-E9B27808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32F7-BBD4-479E-AD3F-6AC740B1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1FED-586F-44F6-8AF0-966890C5097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Franklin Gothic Book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42100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抗病毒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Franklin Gothic Book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71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又名无环鸟苷。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【作用特点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竞争性抑制病毒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多聚酶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阻断病毒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DNA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的合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对Ⅰ型和Ⅱ型单纯疱疹病毒作用最强，对水痘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带状疱疹病毒及乙型肝炎病毒也有一定抑制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口服吸收差。血浆蛋白结合率很低，易透过生物膜，脑脊液中药物浓度可达血药浓度的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1/2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右箭头 1"/>
          <p:cNvSpPr/>
          <p:nvPr/>
        </p:nvSpPr>
        <p:spPr>
          <a:xfrm flipV="1">
            <a:off x="5219640" y="2564640"/>
            <a:ext cx="432000" cy="1429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628640"/>
            <a:ext cx="829944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临床应用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首选用于单纯疱疹病毒Ⅰ、Ⅱ型感染</a:t>
            </a:r>
            <a:r>
              <a:rPr b="0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皮肤、粘膜疱疹、生殖器疱疹、单纯疱疹脑炎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二）防治带状疱疹病毒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三）与免疫调节剂（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α</a:t>
            </a:r>
            <a:r>
              <a:rPr b="0" lang="en-US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干扰素）联用治疗乙型肝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6280" y="1628640"/>
            <a:ext cx="72198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【不良反应和药疗监护须知】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（一）不良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不良反应少：偶有头晕、头痛；呕吐；斑疹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550"/>
              </a:spcBef>
              <a:buClr>
                <a:srgbClr val="046ca6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滴给药：偶见可逆性肾功能紊乱（血尿素及肌酐水平升高）、静脉炎等。也可出现神经毒性（震颤、谵妄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阿昔洛韦（</a:t>
            </a:r>
            <a:r>
              <a:rPr b="1" lang="en-US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aciclovir</a:t>
            </a:r>
            <a:r>
              <a:rPr b="1" lang="zh-CN" sz="3200" spc="-1" strike="noStrike">
                <a:solidFill>
                  <a:srgbClr val="ffffff"/>
                </a:solidFill>
                <a:latin typeface="华文隶书"/>
                <a:ea typeface="华文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Franklin Gothic Book"/>
                <a:ea typeface="华文楷体"/>
              </a:rPr>
              <a:t>（二）药疗监护须知</a:t>
            </a:r>
            <a:endParaRPr b="1" lang="en-US" sz="2800" spc="-1" strike="noStrike">
              <a:solidFill>
                <a:srgbClr val="8ac8de"/>
              </a:solidFill>
              <a:latin typeface="Franklin Gothic Book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静脉滴注给药时，嘱患者大量饮水，以避免血尿素及肌酐升高；肾功能减退者慎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经常更换注射部位，以防发生血栓性静脉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霜剂可有一过性烧灼感或疼痛，小部分有皮疹、轻度干燥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华文楷体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楷体"/>
                <a:ea typeface="华文楷体"/>
              </a:rPr>
              <a:t>少数患者用眼膏后有一过性轻度疼痛，但不必终止治疗，愈后无明显后遗症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Franklin Gothic Medium"/>
                <a:ea typeface="隶书"/>
              </a:rPr>
              <a:t>其他抗病毒药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Franklin Gothic Book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1280" y="939960"/>
          <a:ext cx="9002880" cy="5559120"/>
        </p:xfrm>
        <a:graphic>
          <a:graphicData uri="http://schemas.openxmlformats.org/drawingml/2006/table">
            <a:tbl>
              <a:tblPr/>
              <a:tblGrid>
                <a:gridCol w="2162160"/>
                <a:gridCol w="4007160"/>
                <a:gridCol w="2833560"/>
              </a:tblGrid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药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名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特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  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不良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利巴韦林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ribaviri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三唑核苷、病毒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广谱抗病毒药，既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，也抗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R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病毒。临床用于防治流感、腺病毒肺炎、甲型肝炎、疱疹及麻疹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溶血性贫血和骨髓功能抑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6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金刚烷胺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amanta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阻止病毒进入宿主细胞并抑制其复制。用于甲型流感的预防和早期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1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胃肠道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2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中枢神经系统反应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3.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致畸胎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476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齐多夫定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zidovu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叠氮胸苷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是一种逆转录酶抑制剂，艾滋病治疗首选药物，可改善临床症状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头痛、肝毒性，停药可恢复，骨髓移植：白细胞减少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38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膦甲酸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foscarnet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选择性作用于病毒</a:t>
                      </a:r>
                      <a:r>
                        <a:rPr b="0" lang="en-US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宋体"/>
                        </a:rPr>
                        <a:t>DNA</a:t>
                      </a: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多聚酶而抑制病毒生长。用于治疗巨细胞病毒性视网膜炎、肺炎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产生严重的肾毒性，其他包括电解质紊乱、癫痫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奥司他韦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oseltamivir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抑制新形成的病毒颗粒从被染细胞释放而阻止病毒在体内的传播。主要用于流行性感冒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主要是消化道症状，还可出现咳嗽、眩晕、头痛、失眠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2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碘苷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doxuridine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又称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疱疹净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全身应用毒性大，仅局部应用治疗单纯疱疹病毒性角膜炎及其他疱疹性眼病效果较好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f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：可引起瘙痒症，局部刺激疼痛，眼部轻微水肿，不宜长期应用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5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干扰素（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nterfero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，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宋体"/>
                        </a:rPr>
                        <a:t>IFN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Franklin Gothic Book"/>
                          <a:ea typeface="华文楷体"/>
                        </a:rPr>
                        <a:t>）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具有广谱抗病毒活性，亦具有免疫调节及抗肿瘤作用，主要用于治疗各型慢性病毒性乙型肝炎、带状疱疹，还用于恶性肿瘤的治疗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46ca6"/>
                          </a:solidFill>
                          <a:latin typeface="Franklin Gothic Book"/>
                          <a:ea typeface="华文楷体"/>
                        </a:rPr>
                        <a:t>不良反应有流感样综合征，白细胞减少，血小板减少及转氨酶升高等。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19:36Z</dcterms:modified>
  <cp:revision>2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